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6880-48C3-4284-82A8-6B3D3D9F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2A53-CD5A-4DAF-8484-6324656A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C5F8-F2DE-4FEB-8FB9-DA8D8805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24D-4EAA-4C9F-B702-79C835CD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B3E1-54AD-4D5D-9E17-2BAA2C1A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81BA-D26F-4DB5-9A0D-D395536F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C194-B95C-47A9-9EE4-85211BC2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F7C9-3A6D-4E48-ACF1-A3E001BE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4BE4-6DEA-4378-BBD2-42453ECC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71AC-A353-4F5B-8967-625C3CA9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7F04-B38E-4664-A04A-D1D88C89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B5A-4CD5-4456-822D-9E662B55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E86D-B95B-4CA5-8BCA-91112064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12B9-4DBD-4BE1-8A7E-7C64ED87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9005-4A03-4777-AFFC-5CF900BB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10FA-D12D-450D-9522-5F8AC1A8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1E4D-7B3C-4F66-8884-D629CBAB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E594B-9423-4280-A022-DBA3D408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B03F0-2CE3-4F36-9C5B-556237F0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B9D70-7FE9-4E88-AF01-28A8333A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1526B-7442-414C-9BC1-91E28E8F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0EC30-3AA8-44D3-B8B7-C32BF372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7A51-93F1-4078-89A2-52BCAD86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8A3D8-DBE6-40F3-8A3E-92ACA4D8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D9D32-69B7-44E8-9235-3E172174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4F60D-EF53-46A4-9EA6-30B24295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32BE1-E208-4880-8E15-9B942D12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D8DF1-ECD0-4629-9020-D88835DC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7DF0F-CD45-4029-BA02-A4609C31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8F1A5-067F-4ECE-92CE-B15DFE3B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72FBA-BE10-42EB-B359-A7079A8F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4A507-CC36-447C-9DDB-FED3F8B7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07E5A-6C19-4C93-ACD8-A57F5210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CB8C-63E9-4BBD-9BD6-E75B5A9B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20C69-9594-4402-BFE4-8CE51C62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8B79E-5489-407F-B989-32C2AE2C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9B310-37BE-4108-9B47-481C450E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4919E-FDA7-4F6B-8008-EC6C2F7B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AD270-CFF3-4C31-B240-AF67DF78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0F4A5-B973-42DC-9C58-67E0592A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4C988-1B51-4258-AD28-F7E0490E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DBC81-8EDF-4D59-BD43-395ECC1F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50391-5446-4AAE-A53A-87BF627F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6A6E1-0545-4F0A-A9B6-3CD8FF3A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CCBD-9E0F-4CFF-9552-D2D8AEC1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95507-5BD5-4D76-B6B3-D32A360E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2FA28-E925-4959-AA38-B3FB98A8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FCB33-3440-4053-806D-06BE9727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AA3CC-F096-4F11-8678-47EC986A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6C6FC-C8F4-43DB-B8EC-B90457C0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9AB2D-62A6-4C42-A383-055FD186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9EC52-1698-4B37-A138-4112DDCD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39F53-4E1A-453F-8A53-1150A372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ACD44-2A51-40D8-A785-29646219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E7B2A-B60E-4753-9151-411B5F3A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AE2-63AB-4980-A870-7AA027FD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EB51F-358F-4374-B90E-4E421EA5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B1874-AB2C-42AF-97DC-AC26B033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1322D-D667-4001-90DE-B4609605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7F8F6-B3AB-4BC3-8ECD-3207CC4C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A6785-D3E5-450D-968C-3E06ABDA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200DC-1EEC-4E1F-8844-FFAC3E61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95FEE-B10C-43B1-A44E-EE6CFD29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9376D-6E7B-4BF2-B27F-B0AB7A18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5EC03-4B85-47DF-A299-D39733CF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E908B-A399-4313-B318-7E1C11EE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344B-0DAA-4433-BA1A-A8249AC2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0D10A-A07E-48BE-9252-F89623DB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51CFF-EFEB-45D6-BF35-99755FD4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F3634-C395-463A-8010-51D757D1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A5F9D-CEF6-4EBE-9453-160EF223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3713C-6EAA-46BD-896E-A73FE586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A22C3-84DB-4C15-B9EC-3B85B1F3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04D53-31BC-4CEE-AD83-8AFB33B4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E9651-A15F-4694-B7C5-3D66D051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F71CF-E02C-45ED-A775-2EC9FC3E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9BFE8-FE51-4C06-B428-E98CD8A9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19B-5B40-489B-8DB7-00ABD79E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BA570-5258-4858-8100-3C48C8F9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777BE-0BD7-4522-98CC-28F00316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0EA2A-6F83-4086-BF3B-8E74B5E7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D5597-749D-49C1-9D27-76936A7D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82B6A-6491-41F7-92F6-7EC4D693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FCF8D-805D-4B4E-BF47-F35BB099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9B9AD-EF4B-4C13-B69E-0F93CEF8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52359-219E-489F-A2CC-BA97918A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392DD-51A8-482E-A8D6-1D7AFB4C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82DB2-86FD-4676-9DDF-4A383D1D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AB1-4F72-4201-A99E-8B84D612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AEE7F-47CB-4C05-9051-5450005B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8F232-DBF6-4B0D-AC92-290F62DA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29E0D-6F18-4D50-957A-582B3A3B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C9540-D869-4155-98B9-B73454F0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81DD2-53F1-4C7D-B3D7-0195ADBA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B129F-43A1-483E-AACA-B191495F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EEE81-6937-47C9-B3A0-96726BA8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9796-8DC3-4F6B-A66A-C576EA1C4255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12E1-8B16-4A73-B443-1A0C6D40490C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F831-BE3B-4176-B4AB-4F279BDEBAB2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BF5B-185A-40C7-8226-04DB5752DADC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652D-B256-4AFF-A52C-A1F6E9103DED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4C64-094B-4D05-B9F7-F13144B9C0A1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F9BE-46C3-4BBC-ADD2-A204E9B39F9E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B08F-AE2B-4A68-84C3-0D388B28691F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569B-7C6D-4495-9F3F-A7E439FE62AA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AB67-C10B-472E-9CC5-8B7D93FD9D0D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6CC4-5E2F-4710-A8AE-B379773340EF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239B-D963-4FEA-AE7B-82254E6BBE31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801F-9DD4-407B-82D9-A6D3A038AF29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5C6A-C361-46D2-A4DA-4A5B4671ADC0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E08E-E743-4CCF-8B00-EA655998A526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A467-E823-4978-8D02-74F0AA3F45B1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536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http://www.craigmarlatt.com/canada/images/government/federal_government_chart.jpg"/>
          <p:cNvPicPr/>
          <p:nvPr/>
        </p:nvPicPr>
        <p:blipFill>
          <a:blip r:embed="rId2"/>
          <a:stretch/>
        </p:blipFill>
        <p:spPr>
          <a:xfrm>
            <a:off x="304920" y="1143000"/>
            <a:ext cx="8534160" cy="552600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4"/>
          <p:cNvSpPr/>
          <p:nvPr/>
        </p:nvSpPr>
        <p:spPr>
          <a:xfrm>
            <a:off x="1143000" y="2209680"/>
            <a:ext cx="1143000" cy="53352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7620120" y="3048120"/>
            <a:ext cx="121896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6019920" y="30481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6781680" y="2209680"/>
            <a:ext cx="1219320" cy="53352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5791320" y="4876920"/>
            <a:ext cx="152388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3809880" y="487692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1828800" y="4876920"/>
            <a:ext cx="160020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3809880" y="3809880"/>
            <a:ext cx="1524240" cy="60984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3"/>
          <p:cNvSpPr/>
          <p:nvPr/>
        </p:nvSpPr>
        <p:spPr>
          <a:xfrm>
            <a:off x="3809880" y="266688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4"/>
          <p:cNvSpPr/>
          <p:nvPr/>
        </p:nvSpPr>
        <p:spPr>
          <a:xfrm>
            <a:off x="3809880" y="1600200"/>
            <a:ext cx="1524240" cy="6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5"/>
          <p:cNvSpPr/>
          <p:nvPr/>
        </p:nvSpPr>
        <p:spPr>
          <a:xfrm>
            <a:off x="1981080" y="3048120"/>
            <a:ext cx="121932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6858000" y="3733920"/>
            <a:ext cx="114300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7"/>
          <p:cNvSpPr/>
          <p:nvPr/>
        </p:nvSpPr>
        <p:spPr>
          <a:xfrm>
            <a:off x="304920" y="3048120"/>
            <a:ext cx="1218960" cy="533160"/>
          </a:xfrm>
          <a:prstGeom prst="rect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18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C9FE-42D3-4335-9F91-75D57E615F59}" type="slidenum">
              <a:rPr b="0" lang="en-CA" sz="10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7:11:57Z</dcterms:created>
  <dc:creator>ladmin</dc:creator>
  <dc:description/>
  <dc:language>en-US</dc:language>
  <cp:lastModifiedBy>Terry, Sean J. (ASD-E)</cp:lastModifiedBy>
  <cp:lastPrinted>2018-01-16T02:22:21Z</cp:lastPrinted>
  <dcterms:modified xsi:type="dcterms:W3CDTF">2018-01-16T02:22:42Z</dcterms:modified>
  <cp:revision>45</cp:revision>
  <dc:subject/>
  <dc:title>Types of Government</dc:title>
</cp:coreProperties>
</file>